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670800" cy="9896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6670800" cy="98964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896400"/>
              <a:gd name="textAreaBottom" fmla="*/ 9896040 h 9896400"/>
            </a:gdLst>
            <a:ahLst/>
            <a:rect l="textAreaLeft" t="textAreaTop" r="textAreaRight" b="textAreaBottom"/>
            <a:pathLst>
              <a:path w="21600" h="32044">
                <a:moveTo>
                  <a:pt x="5" y="0"/>
                </a:moveTo>
                <a:arcTo wR="5" hR="5" stAng="16200000" swAng="-5400000"/>
                <a:lnTo>
                  <a:pt x="0" y="32039"/>
                </a:lnTo>
                <a:arcTo wR="5" hR="5" stAng="10800000" swAng="-5400000"/>
                <a:lnTo>
                  <a:pt x="21595" y="320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6670800" cy="98964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896400"/>
              <a:gd name="textAreaBottom" fmla="*/ 9896040 h 9896400"/>
            </a:gdLst>
            <a:ahLst/>
            <a:rect l="textAreaLeft" t="textAreaTop" r="textAreaRight" b="textAreaBottom"/>
            <a:pathLst>
              <a:path w="21600" h="32044">
                <a:moveTo>
                  <a:pt x="5" y="0"/>
                </a:moveTo>
                <a:arcTo wR="5" hR="5" stAng="16200000" swAng="-5400000"/>
                <a:lnTo>
                  <a:pt x="0" y="32039"/>
                </a:lnTo>
                <a:arcTo wR="5" hR="5" stAng="10800000" swAng="-5400000"/>
                <a:lnTo>
                  <a:pt x="21595" y="320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19"/>
          </p:nvPr>
        </p:nvSpPr>
        <p:spPr>
          <a:xfrm>
            <a:off x="377784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2080" cy="37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body"/>
          </p:nvPr>
        </p:nvSpPr>
        <p:spPr>
          <a:xfrm>
            <a:off x="666720" y="4700160"/>
            <a:ext cx="53323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0"/>
          </p:nvPr>
        </p:nvSpPr>
        <p:spPr>
          <a:xfrm>
            <a:off x="3777840" y="939924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D7DD9-0B4E-4C4B-9593-DFE9BB9E6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FE884-2792-44A8-A343-D58A4DB21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B06B5-5E6B-4096-838A-E5A5FD9CD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A4A53-3650-4A68-9B93-DAA4E65B8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1D35B7-35B4-4613-8B84-E78C2F69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CFF97-10C7-4F7A-BEE8-84897B1A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341BB8-C663-4A42-AA8F-CF8D540D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B2A013-97D5-485C-8FAB-51B066F3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BF7865-1FB5-4A42-B199-128DC14B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BCFCB7-1F78-468A-81FA-BB2C97A6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F64D8C-3458-4983-B14A-CF5B9603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89B930-DB4B-433C-B9A1-652D5F1A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A59256-9712-480C-8D84-004459078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C9762-7256-4951-8345-1628F53A83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95215-09C0-4D08-AE18-FF5981B8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C7736-DE8C-45ED-A94F-01F0A16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77015-F5FC-4198-96A6-E487876F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3F83-DF5C-4E01-9FA9-553586E4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CFF75-FAA9-458D-B0F9-8DB0DCB5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2EC58-F61F-4DB9-B811-D430F0B4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BD02C-090D-48A0-8EB9-6C69D223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515A3-6979-4FC8-86F6-19207E62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34060-E5D1-439D-928C-74FE8AD0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9BC97-B1BE-4709-B177-9D421BC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53E40-1793-4529-B2BF-85C11E0803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1538-801C-4FFF-ADF1-3485FB9F79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6289-4325-4757-9F34-6AF6667F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6002-2EA6-47FC-B479-48AA5E1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0AB95-B8CB-424D-B6F4-2E9B1B50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CE2A-1FFF-4F49-9684-C91507CC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8E14-CB3A-41D4-86B4-BF0040C8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7128-A475-47C4-9D25-1520F7B8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0211-6F09-4DFF-9D30-789E5B53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27B0-9886-4989-8C9F-7145046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25EB-BF9D-40C2-9AD2-6FA275ED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A0A0-0696-45DE-968C-FA0B94AC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A1DE-4092-4A8F-9E1E-F7C11E7F23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03652-3C93-4A93-80D6-094804F1E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FC1A-13EC-45C3-A06F-60C28CBA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F8984-EDFF-400A-B162-9A74D22B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B455B-2868-4E2B-BFBE-02A2FAD7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5C79F-E9DB-4AEF-AAB7-AD2178A1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AF344-1B6F-429E-9002-E3AE84E5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BC6BB-E2D9-4FC4-B738-B322501E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5A07E-84D2-42FA-85AA-408A612F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DC932-C6FE-43E4-BB3A-2A7D06D1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DB831-6A99-4458-BB9D-F292228D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2B965-1838-4792-AA15-5247ABE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1419F-4634-46D3-AB90-CD0DA86D0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EB09-FF56-4857-AACF-06FB5209A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FA52-410A-42C7-9A80-C3C8DE47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5CDB-3196-41EF-9718-E0A439C1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F337-204A-4E2C-AA26-8A36E463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773D-D318-42DE-8ECE-3D981E46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DE4C-71A8-46A9-937A-241D8995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EDD7-CBAC-46CC-B065-8B665769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AA6D-BD99-4C1D-973F-8715783D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64B3-3A3D-44FB-A301-33140222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9897-067E-4EC1-820B-3753A6C2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6E1F-A2C5-4734-AF3B-00A1656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9991-C8A2-4C91-B2FA-164060DA7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EB338-E2E9-44A2-B103-318A7881E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9A59D-EE92-4D2E-BAEF-89C56C1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5299D-3AF5-410D-B3D0-3283A65D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91915-E199-4354-B91D-7BD90521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DF753-9A7B-42C9-8177-A36A271B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F62F7-96DE-4415-AE06-35F9E6D9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D35CA-4023-444B-BEA6-D110BB2A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B274C-4AC0-4EDC-90AC-CB4EC093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E600F-B1AD-4D86-BDA9-891AF61F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3520D-2520-41F7-A3F7-52828409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7BDF0-75DC-46F3-AFD5-00F9B3A8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FFAA0-6F60-41C5-9171-4643803D8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D9FB5-6227-4C6D-A745-2016031AFA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0DD74-2F42-44A2-BA9C-1BB69838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285AF-8072-4935-B5E7-5C03B7C1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B21CE-D329-4710-AF24-E08D4D3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17578-D1BC-4681-995A-35B884EA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FCCE2-5266-491A-A7B0-ED290A27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77D4A-7C50-474A-BFFE-40A4F64A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5E05D-2BFE-41FB-B9DA-2A36A13A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86C0F-D7F1-4FA7-AD3C-BC41D891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8F1EA-BA09-4384-91C1-F10744A8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6FD39-80C1-4C24-AA8E-6F09C0AB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703A3-5C30-46F8-85EC-7151A9F627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F4A8-3B14-417D-87DC-0A2EDB355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FD3A9-B100-4CD7-BED9-E337915E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DFBED-388C-4DB9-B132-94D721DF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1026-3867-40DE-803D-0C202B91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0FE33-7723-4A28-8B3D-91DFC3C2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E3BC4-6476-46E2-A795-1EE46B07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052E-B6FC-41AE-ACDE-E5B2BAF6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8854-DE7E-4A23-AA59-9DF9840B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B5E9-52B0-40EA-9508-A55F3802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4A73B-E6E6-4634-BB4C-B47ED901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E163-4A19-4221-9B21-2D29DEEE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57D4-F2D8-4D5C-BF3E-E8C936236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0F601-CC78-47B4-8844-848DB05AB6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30C2B-60DF-4BD7-8E8F-C72894C1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CFDB0-0C8B-4624-B60D-4F3100B0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5FFE8-9DF6-42B5-8C32-735E1545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320E8-234A-4258-9DDB-F0CC74D7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9EEEE-A19E-405B-88E6-3E3E0575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DF60A-ACF8-461C-A241-E8AC4E94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8605B-214F-41EE-B592-86ADC634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4939B-5B68-4B3A-ADC4-1485490E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29032-A0A6-402B-92BC-519638D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A22F8-5A04-4660-8C9D-BC5D01C5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24781-3EDC-4E35-9E94-B394F874C4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814B7-D9E8-4B67-8033-04FAD337B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1784FC-0DEB-41D5-BD84-8C52F8A7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5DC103-06BE-433D-A8A8-56766B96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542485-512D-4062-A4FD-9A01A450AB4F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06E3A1-0E84-4D39-AA0F-FFBDC9E5B83D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BFDFBA-94AC-4E9C-8CD9-C37833907DFA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9A4A4E-6EB2-4F9B-9338-E001D1FE2C03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ABC2CD-058F-4058-AD94-651D1BA8FDA2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76AB37-A184-4AF3-9108-C8839844B9DA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B46303-34C3-44F5-B55E-71C9F833A575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1D17E85-E88B-4EFD-83CE-C4FE3C5CC250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F870946-3808-4A75-96A5-ABD79E093F5D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enmedia.org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3929040" cy="3143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214800" y="242892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715000" y="2000160"/>
            <a:ext cx="3214800" cy="3210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28760" y="1285920"/>
            <a:ext cx="8715240" cy="4287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0" y="928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cabce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New Media for Youth Eng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Eden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00160" y="6357960"/>
            <a:ext cx="2357640" cy="500040"/>
          </a:xfrm>
          <a:prstGeom prst="rect">
            <a:avLst/>
          </a:prstGeom>
          <a:solidFill>
            <a:srgbClr val="4cab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43720" y="5429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www.eden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85880" y="928800"/>
            <a:ext cx="797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cabce"/>
                </a:solidFill>
                <a:latin typeface="Arial"/>
              </a:rPr>
              <a:t>Introduction to Eden Media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43040" y="1440000"/>
            <a:ext cx="609588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ng people are using new media on routine daily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engage in their own way about issues they think are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are often accused of apathy  and dis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(research suggests) they see participation in more individual and less institutional terms than their parents and older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(and new opportunity) to exploit new media’s potential to ‘empower’ young people and enable participation in issues that affect them and their loca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00200" y="13860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57160" y="928800"/>
            <a:ext cx="7905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cabce"/>
                </a:solidFill>
                <a:latin typeface="Arial"/>
              </a:rPr>
              <a:t>Introduction to Eden Media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71760" y="1440000"/>
            <a:ext cx="59292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en Media website was set up in a short space of time to demonstrate what is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1"/>
              </a:rPr>
              <a:t>http:www.edenmedia.org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d Free or low cos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limitations but great enthusiasm from young people on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used a wiki to help us organise things at a distance (www.engagingeden.wikispaces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group took on the mantle of ‘digital reporters’ and ‘editors’ to engage with other young people using new media and provide feedback to the Council about a youth event organised in late M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13860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3929040" cy="31435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214800" y="242892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715000" y="2000160"/>
            <a:ext cx="3214800" cy="3210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428760" y="1285920"/>
            <a:ext cx="8715240" cy="4287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928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cabce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New Media for Youth Eng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Eden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00160" y="6357960"/>
            <a:ext cx="2357640" cy="500040"/>
          </a:xfrm>
          <a:prstGeom prst="rect">
            <a:avLst/>
          </a:prstGeom>
          <a:solidFill>
            <a:srgbClr val="4cab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43720" y="5429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www.eden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71680" y="928800"/>
            <a:ext cx="819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cabce"/>
                </a:solidFill>
                <a:latin typeface="Arial"/>
              </a:rPr>
              <a:t>SkateJam, Skateboard Park, Penr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2000160"/>
            <a:ext cx="6095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13860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857680" y="1857240"/>
            <a:ext cx="3261960" cy="28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52:55Z</dcterms:created>
  <dc:creator>barryc</dc:creator>
  <dc:description/>
  <dc:language>en-US</dc:language>
  <cp:lastModifiedBy>Administrator</cp:lastModifiedBy>
  <dcterms:modified xsi:type="dcterms:W3CDTF">2009-06-26T12:53:23Z</dcterms:modified>
  <cp:revision>135</cp:revision>
  <dc:subject/>
  <dc:title>Slide 1</dc:title>
</cp:coreProperties>
</file>